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D85-D1CE-4CDF-B424-5C0469AD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A95-E04A-47B9-B6EE-15061BF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AC4-6A7C-4B0F-9D71-4FCF71BB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E29-3881-49CA-BD44-11644705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A5F-34BD-477E-AD5E-44939A88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4E0-6251-483E-AFDE-1FF9EFC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E47-3B8A-4E0F-9C9F-379B398E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F4B-8BDE-4C2E-9C22-B6986D2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647-A89B-4E07-AC97-D1C81C3B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B55-5349-4D0E-96F0-13CAB63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885-E81E-456C-B29F-9DF5554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68F-8BB4-4036-9C75-5BD6F3B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AF4A-F487-47F2-A47C-332C357F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://www.absolutechinatours.com/UploadFiles/ImageBase/2008122182342678_2(1)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Juice ITC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838080" y="19810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Juice ITC"/>
              </a:rPr>
              <a:t>Oa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http://backpackeran.com/wp-content/uploads/2011/03/himalaya-mountain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nap ITC"/>
              </a:rPr>
              <a:t>A series of connected mounta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629400" y="16765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nap ITC"/>
              </a:rPr>
              <a:t>Mountain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7ffd1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How is a mesa different from a but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A mesa is bigger than a butt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Straight Arrow Connector 8"/>
          <p:cNvCxnSpPr/>
          <p:nvPr/>
        </p:nvCxnSpPr>
        <p:spPr>
          <a:xfrm>
            <a:off x="4038120" y="4191120"/>
            <a:ext cx="205776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rapezoid 17"/>
          <p:cNvSpPr/>
          <p:nvPr/>
        </p:nvSpPr>
        <p:spPr>
          <a:xfrm>
            <a:off x="304920" y="5029200"/>
            <a:ext cx="1904760" cy="18288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rapezoid 18"/>
          <p:cNvSpPr/>
          <p:nvPr/>
        </p:nvSpPr>
        <p:spPr>
          <a:xfrm>
            <a:off x="6705720" y="4267080"/>
            <a:ext cx="2438280" cy="259092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http://media-cdn.tripadvisor.com/media/photo-s/00/15/b9/e8/beautiful-trunk-bay.jpg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1920" y="12193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at is the difference between a gulf and a b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0666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bay is smaller than a gu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http://istgeography.wikispaces.com/file/view/spurn.gif/31471913/spurn.gif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373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www.snyder7hills.org/units/ss/ch1/images/Isthmus1.jpg"/>
          <p:cNvPicPr/>
          <p:nvPr/>
        </p:nvPicPr>
        <p:blipFill>
          <a:blip r:embed="rId2"/>
          <a:stretch/>
        </p:blipFill>
        <p:spPr>
          <a:xfrm>
            <a:off x="0" y="3419640"/>
            <a:ext cx="9144000" cy="343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at is the difference between a strait and a isthm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838080" y="2590920"/>
            <a:ext cx="6553440" cy="119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 isthmus is a piece of land that connects two bigger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landmass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together, and a strait is what connects two larger bodies of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images.nationalgeographic.com/wpf/media-live/photos/000/010/cache/kenya-plains_1032_600x4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Snap ITC"/>
              </a:rPr>
              <a:t>What is a large area of flat or nearly flat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5715000" y="3276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Snap ITC"/>
              </a:rPr>
              <a:t>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http://www.geologicresources.com/capecod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Juice ITC"/>
              </a:rPr>
              <a:t>Point of land that extends into a river, lake,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4495680" y="3124080"/>
            <a:ext cx="2133720" cy="703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Juice ITC"/>
              </a:rPr>
              <a:t>Ca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://www.desktopwallpaperhd.com/wallpapers/11/49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Snap ITC"/>
              </a:rPr>
              <a:t>the place where a river begi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0080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nap ITC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images.wikia.com/geology/images/b/bd/Volcan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Mountain created as liquid rock and ash erupt from the inside the 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81680" y="3505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geo.uu.nl/fg/palaeogeography/pictures/delta_evolution/delt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Snap ITC"/>
              </a:rPr>
              <a:t>Flat, low-lying land built up from soil carried downstream by a river and deposited at its mou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705720" y="40384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Snap ITC"/>
              </a:rPr>
              <a:t>De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://www.traveladventures.org/continents/africa/images/hamm10.jpg"/>
          <p:cNvPicPr/>
          <p:nvPr/>
        </p:nvPicPr>
        <p:blipFill>
          <a:blip r:embed="rId1"/>
          <a:stretch/>
        </p:blipFill>
        <p:spPr>
          <a:xfrm>
            <a:off x="0" y="2133720"/>
            <a:ext cx="662940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cc99"/>
                </a:solidFill>
                <a:latin typeface="Snap ITC"/>
              </a:rPr>
              <a:t>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nap ITC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www.freewebs.com/abbyoneill/Alaska_glacier_calv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Juice ITC"/>
              </a:rPr>
              <a:t>A huge sheet of ice that moves slowly across the lan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67816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Juice ITC"/>
              </a:rPr>
              <a:t>Glac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room42.wikispaces.com/file/view/desert2_O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Snap ITC"/>
              </a:rPr>
              <a:t>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324480" y="3429000"/>
            <a:ext cx="2133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60093"/>
                </a:solidFill>
                <a:latin typeface="Snap ITC"/>
              </a:rPr>
              <a:t>Deser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40:13Z</dcterms:modified>
  <cp:revision>30</cp:revision>
  <dc:subject/>
  <dc:title>PowerPoint Presentation</dc:title>
</cp:coreProperties>
</file>